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charts/chart12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7" spc="-1" strike="noStrike">
                <a:solidFill>
                  <a:srgbClr val="000000"/>
                </a:solidFill>
                <a:latin typeface="Arial"/>
              </a:defRPr>
            </a:pPr>
            <a:r>
              <a:rPr b="1" sz="1507" spc="-1" strike="noStrike">
                <a:solidFill>
                  <a:srgbClr val="000000"/>
                </a:solidFill>
                <a:latin typeface="Arial"/>
              </a:rPr>
              <a:t>EEJAB MATUTINO</a:t>
            </a:r>
          </a:p>
        </c:rich>
      </c:tx>
      <c:layout>
        <c:manualLayout>
          <c:xMode val="edge"/>
          <c:yMode val="edge"/>
          <c:x val="0.39585999911727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496844242398"/>
          <c:y val="0.209223847019123"/>
          <c:w val="0.959968221741625"/>
          <c:h val="0.7700287464066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8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1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1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74064171122995</c:v>
                </c:pt>
                <c:pt idx="1">
                  <c:v>2.63101604278075</c:v>
                </c:pt>
                <c:pt idx="2">
                  <c:v>7.01604278074866</c:v>
                </c:pt>
                <c:pt idx="3">
                  <c:v>6.13903743315508</c:v>
                </c:pt>
                <c:pt idx="4">
                  <c:v>4.16577540106952</c:v>
                </c:pt>
                <c:pt idx="5">
                  <c:v>4.16577540106952</c:v>
                </c:pt>
                <c:pt idx="6">
                  <c:v>3.06951871657754</c:v>
                </c:pt>
                <c:pt idx="7">
                  <c:v>2.85026737967914</c:v>
                </c:pt>
                <c:pt idx="8">
                  <c:v>1.31550802139037</c:v>
                </c:pt>
                <c:pt idx="9">
                  <c:v>1.75401069518717</c:v>
                </c:pt>
                <c:pt idx="10">
                  <c:v>1.53475935828877</c:v>
                </c:pt>
                <c:pt idx="11">
                  <c:v>1.31550802139037</c:v>
                </c:pt>
                <c:pt idx="12">
                  <c:v>0.657754010695187</c:v>
                </c:pt>
                <c:pt idx="13">
                  <c:v>0.657754010695187</c:v>
                </c:pt>
                <c:pt idx="14">
                  <c:v>0.877005347593583</c:v>
                </c:pt>
                <c:pt idx="15">
                  <c:v>0.109625668449198</c:v>
                </c:pt>
              </c:numCache>
            </c:numRef>
          </c:val>
        </c:ser>
        <c:gapWidth val="100"/>
        <c:overlap val="0"/>
        <c:axId val="23946280"/>
        <c:axId val="63319756"/>
      </c:barChart>
      <c:catAx>
        <c:axId val="2394628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19756"/>
        <c:crossesAt val="0"/>
        <c:auto val="1"/>
        <c:lblAlgn val="ctr"/>
        <c:lblOffset val="100"/>
        <c:noMultiLvlLbl val="0"/>
      </c:catAx>
      <c:valAx>
        <c:axId val="63319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4628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EEJAB NOTURNO</a:t>
            </a:r>
          </a:p>
        </c:rich>
      </c:tx>
      <c:layout>
        <c:manualLayout>
          <c:xMode val="edge"/>
          <c:yMode val="edge"/>
          <c:x val="0.398915603750944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60001777698769"/>
          <c:h val="0.7700287464066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6</c:v>
                </c:pt>
                <c:pt idx="2">
                  <c:v>8</c:v>
                </c:pt>
                <c:pt idx="3">
                  <c:v>3</c:v>
                </c:pt>
                <c:pt idx="4">
                  <c:v>1</c:v>
                </c:pt>
                <c:pt idx="5">
                  <c:v>5</c:v>
                </c:pt>
                <c:pt idx="6">
                  <c:v>5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1</c:v>
                </c:pt>
                <c:pt idx="11">
                  <c:v>2</c:v>
                </c:pt>
                <c:pt idx="12">
                  <c:v>4</c:v>
                </c:pt>
                <c:pt idx="13">
                  <c:v>4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46575342465753</c:v>
                </c:pt>
                <c:pt idx="1">
                  <c:v>2.46575342465753</c:v>
                </c:pt>
                <c:pt idx="2">
                  <c:v>9.04109589041096</c:v>
                </c:pt>
                <c:pt idx="3">
                  <c:v>8.21917808219178</c:v>
                </c:pt>
                <c:pt idx="4">
                  <c:v>5.75342465753425</c:v>
                </c:pt>
                <c:pt idx="5">
                  <c:v>5.75342465753425</c:v>
                </c:pt>
                <c:pt idx="6">
                  <c:v>5.75342465753425</c:v>
                </c:pt>
                <c:pt idx="7">
                  <c:v>2.46575342465753</c:v>
                </c:pt>
                <c:pt idx="8">
                  <c:v>3.28767123287671</c:v>
                </c:pt>
                <c:pt idx="9">
                  <c:v>4.38356164383562</c:v>
                </c:pt>
                <c:pt idx="10">
                  <c:v>3.83561643835616</c:v>
                </c:pt>
                <c:pt idx="11">
                  <c:v>3.28767123287671</c:v>
                </c:pt>
                <c:pt idx="12">
                  <c:v>2.19178082191781</c:v>
                </c:pt>
                <c:pt idx="13">
                  <c:v>1.0958904109589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4362079"/>
        <c:axId val="8735566"/>
      </c:barChart>
      <c:catAx>
        <c:axId val="436207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5566"/>
        <c:crossesAt val="0"/>
        <c:auto val="1"/>
        <c:lblAlgn val="ctr"/>
        <c:lblOffset val="100"/>
        <c:noMultiLvlLbl val="0"/>
      </c:catAx>
      <c:valAx>
        <c:axId val="8735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207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3" spc="-1" strike="noStrike">
                <a:solidFill>
                  <a:srgbClr val="000000"/>
                </a:solidFill>
                <a:latin typeface="Arial"/>
              </a:defRPr>
            </a:pPr>
            <a:r>
              <a:rPr b="1" sz="1493" spc="-1" strike="noStrike">
                <a:solidFill>
                  <a:srgbClr val="000000"/>
                </a:solidFill>
                <a:latin typeface="Arial"/>
              </a:rPr>
              <a:t>EEJAB NOTURNO</a:t>
            </a:r>
          </a:p>
        </c:rich>
      </c:tx>
      <c:layout>
        <c:manualLayout>
          <c:xMode val="edge"/>
          <c:yMode val="edge"/>
          <c:x val="0.399048931158615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59912892760322"/>
          <c:h val="0.7700287464066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0</c:v>
                </c:pt>
                <c:pt idx="2">
                  <c:v>0</c:v>
                </c:pt>
                <c:pt idx="3">
                  <c:v>4</c:v>
                </c:pt>
                <c:pt idx="4">
                  <c:v>0</c:v>
                </c:pt>
                <c:pt idx="5">
                  <c:v>5</c:v>
                </c:pt>
                <c:pt idx="6">
                  <c:v>9</c:v>
                </c:pt>
                <c:pt idx="7">
                  <c:v>3</c:v>
                </c:pt>
                <c:pt idx="8">
                  <c:v>2</c:v>
                </c:pt>
                <c:pt idx="9">
                  <c:v>0</c:v>
                </c:pt>
                <c:pt idx="10">
                  <c:v>2</c:v>
                </c:pt>
                <c:pt idx="11">
                  <c:v>5</c:v>
                </c:pt>
                <c:pt idx="12">
                  <c:v>3</c:v>
                </c:pt>
                <c:pt idx="13">
                  <c:v>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0958904109589</c:v>
                </c:pt>
                <c:pt idx="1">
                  <c:v>2.0958904109589</c:v>
                </c:pt>
                <c:pt idx="2">
                  <c:v>7.68493150684932</c:v>
                </c:pt>
                <c:pt idx="3">
                  <c:v>6.98630136986301</c:v>
                </c:pt>
                <c:pt idx="4">
                  <c:v>4.89041095890411</c:v>
                </c:pt>
                <c:pt idx="5">
                  <c:v>4.89041095890411</c:v>
                </c:pt>
                <c:pt idx="6">
                  <c:v>4.89041095890411</c:v>
                </c:pt>
                <c:pt idx="7">
                  <c:v>2.0958904109589</c:v>
                </c:pt>
                <c:pt idx="8">
                  <c:v>2.79452054794521</c:v>
                </c:pt>
                <c:pt idx="9">
                  <c:v>3.72602739726027</c:v>
                </c:pt>
                <c:pt idx="10">
                  <c:v>3.26027397260274</c:v>
                </c:pt>
                <c:pt idx="11">
                  <c:v>2.79452054794521</c:v>
                </c:pt>
                <c:pt idx="12">
                  <c:v>1.86301369863014</c:v>
                </c:pt>
                <c:pt idx="13">
                  <c:v>0.931506849315068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31580639"/>
        <c:axId val="89794287"/>
      </c:barChart>
      <c:catAx>
        <c:axId val="3158063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94287"/>
        <c:crossesAt val="0"/>
        <c:auto val="1"/>
        <c:lblAlgn val="ctr"/>
        <c:lblOffset val="100"/>
        <c:noMultiLvlLbl val="0"/>
      </c:catAx>
      <c:valAx>
        <c:axId val="897942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8063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3" spc="-1" strike="noStrike">
                <a:solidFill>
                  <a:srgbClr val="000000"/>
                </a:solidFill>
                <a:latin typeface="Arial"/>
              </a:defRPr>
            </a:pPr>
            <a:r>
              <a:rPr b="1" sz="1493" spc="-1" strike="noStrike">
                <a:solidFill>
                  <a:srgbClr val="000000"/>
                </a:solidFill>
                <a:latin typeface="Arial"/>
              </a:rPr>
              <a:t>EEJAB NOTURNO</a:t>
            </a:r>
          </a:p>
        </c:rich>
      </c:tx>
      <c:layout>
        <c:manualLayout>
          <c:xMode val="edge"/>
          <c:yMode val="edge"/>
          <c:x val="0.399093373627839"/>
          <c:y val="0.020263964804692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438741501133"/>
          <c:w val="0.959957335229545"/>
          <c:h val="0.77016397813624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11</c:v>
                </c:pt>
                <c:pt idx="3">
                  <c:v>1</c:v>
                </c:pt>
                <c:pt idx="4">
                  <c:v>1</c:v>
                </c:pt>
                <c:pt idx="5">
                  <c:v>9</c:v>
                </c:pt>
                <c:pt idx="6">
                  <c:v>1</c:v>
                </c:pt>
                <c:pt idx="7">
                  <c:v>8</c:v>
                </c:pt>
                <c:pt idx="8">
                  <c:v>2</c:v>
                </c:pt>
                <c:pt idx="9">
                  <c:v>0</c:v>
                </c:pt>
                <c:pt idx="10">
                  <c:v>2</c:v>
                </c:pt>
                <c:pt idx="11">
                  <c:v>6</c:v>
                </c:pt>
                <c:pt idx="12">
                  <c:v>4</c:v>
                </c:pt>
                <c:pt idx="13">
                  <c:v>4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50684931506849</c:v>
                </c:pt>
                <c:pt idx="1">
                  <c:v>2.50684931506849</c:v>
                </c:pt>
                <c:pt idx="2">
                  <c:v>9.19178082191781</c:v>
                </c:pt>
                <c:pt idx="3">
                  <c:v>8.35616438356164</c:v>
                </c:pt>
                <c:pt idx="4">
                  <c:v>5.84931506849315</c:v>
                </c:pt>
                <c:pt idx="5">
                  <c:v>5.84931506849315</c:v>
                </c:pt>
                <c:pt idx="6">
                  <c:v>5.84931506849315</c:v>
                </c:pt>
                <c:pt idx="7">
                  <c:v>2.50684931506849</c:v>
                </c:pt>
                <c:pt idx="8">
                  <c:v>3.34246575342466</c:v>
                </c:pt>
                <c:pt idx="9">
                  <c:v>4.45662100456621</c:v>
                </c:pt>
                <c:pt idx="10">
                  <c:v>3.89954337899543</c:v>
                </c:pt>
                <c:pt idx="11">
                  <c:v>3.34246575342466</c:v>
                </c:pt>
                <c:pt idx="12">
                  <c:v>1.67123287671233</c:v>
                </c:pt>
                <c:pt idx="13">
                  <c:v>1.67123287671233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97005644"/>
        <c:axId val="5476921"/>
      </c:barChart>
      <c:catAx>
        <c:axId val="9700564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6921"/>
        <c:crossesAt val="0"/>
        <c:auto val="1"/>
        <c:lblAlgn val="ctr"/>
        <c:lblOffset val="100"/>
        <c:noMultiLvlLbl val="0"/>
      </c:catAx>
      <c:valAx>
        <c:axId val="5476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0564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1" spc="-1" strike="noStrike">
                <a:solidFill>
                  <a:srgbClr val="000000"/>
                </a:solidFill>
                <a:latin typeface="Arial"/>
              </a:defRPr>
            </a:pPr>
            <a:r>
              <a:rPr b="1" sz="1501" spc="-1" strike="noStrike">
                <a:solidFill>
                  <a:srgbClr val="000000"/>
                </a:solidFill>
                <a:latin typeface="Arial"/>
              </a:rPr>
              <a:t>EEJAB MATUTINO</a:t>
            </a:r>
          </a:p>
        </c:rich>
      </c:tx>
      <c:layout>
        <c:manualLayout>
          <c:xMode val="edge"/>
          <c:yMode val="edge"/>
          <c:x val="0.395980878186969"/>
          <c:y val="0.020122484689413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628186968839"/>
          <c:y val="0.209223847019123"/>
          <c:w val="0.959985835694051"/>
          <c:h val="0.77065366829146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0</c:v>
                </c:pt>
                <c:pt idx="2">
                  <c:v>2</c:v>
                </c:pt>
                <c:pt idx="3">
                  <c:v>0</c:v>
                </c:pt>
                <c:pt idx="4">
                  <c:v>0</c:v>
                </c:pt>
                <c:pt idx="5">
                  <c:v>1</c:v>
                </c:pt>
                <c:pt idx="6">
                  <c:v>3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4</c:v>
                </c:pt>
                <c:pt idx="11">
                  <c:v>0</c:v>
                </c:pt>
                <c:pt idx="12">
                  <c:v>1</c:v>
                </c:pt>
                <c:pt idx="13">
                  <c:v>6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5427807486631</c:v>
                </c:pt>
                <c:pt idx="1">
                  <c:v>3.40106951871658</c:v>
                </c:pt>
                <c:pt idx="2">
                  <c:v>9.06951871657754</c:v>
                </c:pt>
                <c:pt idx="3">
                  <c:v>7.93582887700535</c:v>
                </c:pt>
                <c:pt idx="4">
                  <c:v>5.38502673796792</c:v>
                </c:pt>
                <c:pt idx="5">
                  <c:v>5.38502673796792</c:v>
                </c:pt>
                <c:pt idx="6">
                  <c:v>3.96791443850267</c:v>
                </c:pt>
                <c:pt idx="7">
                  <c:v>3.68449197860963</c:v>
                </c:pt>
                <c:pt idx="8">
                  <c:v>1.70053475935829</c:v>
                </c:pt>
                <c:pt idx="9">
                  <c:v>2.26737967914439</c:v>
                </c:pt>
                <c:pt idx="10">
                  <c:v>1.98395721925134</c:v>
                </c:pt>
                <c:pt idx="11">
                  <c:v>1.70053475935829</c:v>
                </c:pt>
                <c:pt idx="12">
                  <c:v>0.850267379679144</c:v>
                </c:pt>
                <c:pt idx="13">
                  <c:v>0.850267379679144</c:v>
                </c:pt>
                <c:pt idx="14">
                  <c:v>1.13368983957219</c:v>
                </c:pt>
                <c:pt idx="15">
                  <c:v>0.141711229946524</c:v>
                </c:pt>
              </c:numCache>
            </c:numRef>
          </c:val>
        </c:ser>
        <c:gapWidth val="100"/>
        <c:overlap val="0"/>
        <c:axId val="37028602"/>
        <c:axId val="40181789"/>
      </c:barChart>
      <c:catAx>
        <c:axId val="3702860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81789"/>
        <c:crossesAt val="0"/>
        <c:auto val="1"/>
        <c:lblAlgn val="ctr"/>
        <c:lblOffset val="100"/>
        <c:noMultiLvlLbl val="0"/>
      </c:catAx>
      <c:valAx>
        <c:axId val="40181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2860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3" spc="-1" strike="noStrike">
                <a:solidFill>
                  <a:srgbClr val="000000"/>
                </a:solidFill>
                <a:latin typeface="Arial"/>
              </a:defRPr>
            </a:pPr>
            <a:r>
              <a:rPr b="1" sz="1493" spc="-1" strike="noStrike">
                <a:solidFill>
                  <a:srgbClr val="000000"/>
                </a:solidFill>
                <a:latin typeface="Arial"/>
              </a:rPr>
              <a:t>EEJAB MATUTINO</a:t>
            </a:r>
          </a:p>
        </c:rich>
      </c:tx>
      <c:layout>
        <c:manualLayout>
          <c:xMode val="edge"/>
          <c:yMode val="edge"/>
          <c:x val="0.396071285720635"/>
          <c:y val="0.020188087774294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153605015674"/>
          <c:w val="0.959912892760322"/>
          <c:h val="0.77065830721003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8</c:v>
                </c:pt>
                <c:pt idx="1">
                  <c:v>1</c:v>
                </c:pt>
                <c:pt idx="2">
                  <c:v>2</c:v>
                </c:pt>
                <c:pt idx="3">
                  <c:v>2</c:v>
                </c:pt>
                <c:pt idx="4">
                  <c:v>1</c:v>
                </c:pt>
                <c:pt idx="5">
                  <c:v>1</c:v>
                </c:pt>
                <c:pt idx="6">
                  <c:v>5</c:v>
                </c:pt>
                <c:pt idx="7">
                  <c:v>6</c:v>
                </c:pt>
                <c:pt idx="8">
                  <c:v>1</c:v>
                </c:pt>
                <c:pt idx="9">
                  <c:v>0</c:v>
                </c:pt>
                <c:pt idx="10">
                  <c:v>6</c:v>
                </c:pt>
                <c:pt idx="11">
                  <c:v>2</c:v>
                </c:pt>
                <c:pt idx="12">
                  <c:v>1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81283422459893</c:v>
                </c:pt>
                <c:pt idx="1">
                  <c:v>4.62032085561497</c:v>
                </c:pt>
                <c:pt idx="2">
                  <c:v>12.3208556149733</c:v>
                </c:pt>
                <c:pt idx="3">
                  <c:v>10.7807486631016</c:v>
                </c:pt>
                <c:pt idx="4">
                  <c:v>7.31550802139038</c:v>
                </c:pt>
                <c:pt idx="5">
                  <c:v>7.31550802139038</c:v>
                </c:pt>
                <c:pt idx="6">
                  <c:v>5.3903743315508</c:v>
                </c:pt>
                <c:pt idx="7">
                  <c:v>5.00534759358289</c:v>
                </c:pt>
                <c:pt idx="8">
                  <c:v>2.31016042780749</c:v>
                </c:pt>
                <c:pt idx="9">
                  <c:v>3.08021390374332</c:v>
                </c:pt>
                <c:pt idx="10">
                  <c:v>2.6951871657754</c:v>
                </c:pt>
                <c:pt idx="11">
                  <c:v>2.31016042780749</c:v>
                </c:pt>
                <c:pt idx="12">
                  <c:v>1.15508021390374</c:v>
                </c:pt>
                <c:pt idx="13">
                  <c:v>1.15508021390374</c:v>
                </c:pt>
                <c:pt idx="14">
                  <c:v>1.54010695187166</c:v>
                </c:pt>
                <c:pt idx="15">
                  <c:v>0.192513368983957</c:v>
                </c:pt>
              </c:numCache>
            </c:numRef>
          </c:val>
        </c:ser>
        <c:gapWidth val="100"/>
        <c:overlap val="0"/>
        <c:axId val="80863580"/>
        <c:axId val="73053486"/>
      </c:barChart>
      <c:catAx>
        <c:axId val="8086358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53486"/>
        <c:crossesAt val="0"/>
        <c:auto val="1"/>
        <c:lblAlgn val="ctr"/>
        <c:lblOffset val="100"/>
        <c:noMultiLvlLbl val="0"/>
      </c:catAx>
      <c:valAx>
        <c:axId val="730534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6358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3" spc="-1" strike="noStrike">
                <a:solidFill>
                  <a:srgbClr val="000000"/>
                </a:solidFill>
                <a:latin typeface="Arial"/>
              </a:defRPr>
            </a:pPr>
            <a:r>
              <a:rPr b="1" sz="1493" spc="-1" strike="noStrike">
                <a:solidFill>
                  <a:srgbClr val="000000"/>
                </a:solidFill>
                <a:latin typeface="Arial"/>
              </a:rPr>
              <a:t>EEJAB MATUTINO</a:t>
            </a:r>
          </a:p>
        </c:rich>
      </c:tx>
      <c:layout>
        <c:manualLayout>
          <c:xMode val="edge"/>
          <c:yMode val="edge"/>
          <c:x val="0.396115728189858"/>
          <c:y val="0.020263964804692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172110385282"/>
          <c:w val="0.959957335229545"/>
          <c:h val="0.77016397813624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0</c:v>
                </c:pt>
                <c:pt idx="2">
                  <c:v>2</c:v>
                </c:pt>
                <c:pt idx="3">
                  <c:v>3</c:v>
                </c:pt>
                <c:pt idx="4">
                  <c:v>0</c:v>
                </c:pt>
                <c:pt idx="5">
                  <c:v>3</c:v>
                </c:pt>
                <c:pt idx="6">
                  <c:v>6</c:v>
                </c:pt>
                <c:pt idx="7">
                  <c:v>10</c:v>
                </c:pt>
                <c:pt idx="8">
                  <c:v>1</c:v>
                </c:pt>
                <c:pt idx="9">
                  <c:v>0</c:v>
                </c:pt>
                <c:pt idx="10">
                  <c:v>1</c:v>
                </c:pt>
                <c:pt idx="11">
                  <c:v>0</c:v>
                </c:pt>
                <c:pt idx="12">
                  <c:v>0</c:v>
                </c:pt>
                <c:pt idx="13">
                  <c:v>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07754010695187</c:v>
                </c:pt>
                <c:pt idx="1">
                  <c:v>3.9144385026738</c:v>
                </c:pt>
                <c:pt idx="2">
                  <c:v>10.4385026737968</c:v>
                </c:pt>
                <c:pt idx="3">
                  <c:v>9.13368983957219</c:v>
                </c:pt>
                <c:pt idx="4">
                  <c:v>6.19786096256684</c:v>
                </c:pt>
                <c:pt idx="5">
                  <c:v>6.19786096256684</c:v>
                </c:pt>
                <c:pt idx="6">
                  <c:v>4.5668449197861</c:v>
                </c:pt>
                <c:pt idx="7">
                  <c:v>4.24064171122995</c:v>
                </c:pt>
                <c:pt idx="8">
                  <c:v>1.9572192513369</c:v>
                </c:pt>
                <c:pt idx="9">
                  <c:v>2.6096256684492</c:v>
                </c:pt>
                <c:pt idx="10">
                  <c:v>2.28342245989305</c:v>
                </c:pt>
                <c:pt idx="11">
                  <c:v>1.9572192513369</c:v>
                </c:pt>
                <c:pt idx="12">
                  <c:v>0.978609625668449</c:v>
                </c:pt>
                <c:pt idx="13">
                  <c:v>0.978609625668449</c:v>
                </c:pt>
                <c:pt idx="14">
                  <c:v>1.3048128342246</c:v>
                </c:pt>
                <c:pt idx="15">
                  <c:v>0.163101604278075</c:v>
                </c:pt>
              </c:numCache>
            </c:numRef>
          </c:val>
        </c:ser>
        <c:gapWidth val="100"/>
        <c:overlap val="0"/>
        <c:axId val="7004177"/>
        <c:axId val="25732463"/>
      </c:barChart>
      <c:catAx>
        <c:axId val="700417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32463"/>
        <c:crossesAt val="0"/>
        <c:auto val="1"/>
        <c:lblAlgn val="ctr"/>
        <c:lblOffset val="100"/>
        <c:noMultiLvlLbl val="0"/>
      </c:catAx>
      <c:valAx>
        <c:axId val="25732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417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6" spc="-1" strike="noStrike">
                <a:solidFill>
                  <a:srgbClr val="000000"/>
                </a:solidFill>
                <a:latin typeface="Arial"/>
              </a:defRPr>
            </a:pPr>
            <a:r>
              <a:rPr b="1" sz="1496" spc="-1" strike="noStrike">
                <a:solidFill>
                  <a:srgbClr val="000000"/>
                </a:solidFill>
                <a:latin typeface="Arial"/>
              </a:rPr>
              <a:t>EEJAB VESPERTINO</a:t>
            </a:r>
          </a:p>
        </c:rich>
      </c:tx>
      <c:layout>
        <c:manualLayout>
          <c:xMode val="edge"/>
          <c:yMode val="edge"/>
          <c:x val="0.382160792853651"/>
          <c:y val="0.020122484689413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59957335229545"/>
          <c:h val="0.77065366829146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2</c:v>
                </c:pt>
                <c:pt idx="2">
                  <c:v>11</c:v>
                </c:pt>
                <c:pt idx="3">
                  <c:v>0</c:v>
                </c:pt>
                <c:pt idx="4">
                  <c:v>0</c:v>
                </c:pt>
                <c:pt idx="5">
                  <c:v>2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52459016393443</c:v>
                </c:pt>
                <c:pt idx="1">
                  <c:v>3.58196721311475</c:v>
                </c:pt>
                <c:pt idx="2">
                  <c:v>9.99180327868852</c:v>
                </c:pt>
                <c:pt idx="3">
                  <c:v>9.23770491803278</c:v>
                </c:pt>
                <c:pt idx="4">
                  <c:v>4.52459016393443</c:v>
                </c:pt>
                <c:pt idx="5">
                  <c:v>4.52459016393443</c:v>
                </c:pt>
                <c:pt idx="6">
                  <c:v>1.88524590163934</c:v>
                </c:pt>
                <c:pt idx="7">
                  <c:v>4.14754098360656</c:v>
                </c:pt>
                <c:pt idx="8">
                  <c:v>0.377049180327869</c:v>
                </c:pt>
                <c:pt idx="9">
                  <c:v>0.377049180327869</c:v>
                </c:pt>
                <c:pt idx="10">
                  <c:v>0.565573770491803</c:v>
                </c:pt>
                <c:pt idx="11">
                  <c:v>0.377049180327869</c:v>
                </c:pt>
                <c:pt idx="12">
                  <c:v>0.188524590163934</c:v>
                </c:pt>
                <c:pt idx="13">
                  <c:v>0</c:v>
                </c:pt>
                <c:pt idx="14">
                  <c:v>0.754098360655738</c:v>
                </c:pt>
                <c:pt idx="15">
                  <c:v>0.942622950819672</c:v>
                </c:pt>
              </c:numCache>
            </c:numRef>
          </c:val>
        </c:ser>
        <c:gapWidth val="100"/>
        <c:overlap val="0"/>
        <c:axId val="15841232"/>
        <c:axId val="77923060"/>
      </c:barChart>
      <c:catAx>
        <c:axId val="1584123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23060"/>
        <c:crossesAt val="0"/>
        <c:auto val="1"/>
        <c:lblAlgn val="ctr"/>
        <c:lblOffset val="100"/>
        <c:noMultiLvlLbl val="0"/>
      </c:catAx>
      <c:valAx>
        <c:axId val="779230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4123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EEJAB VESPERTINO</a:t>
            </a:r>
          </a:p>
        </c:rich>
      </c:tx>
      <c:layout>
        <c:manualLayout>
          <c:xMode val="edge"/>
          <c:yMode val="edge"/>
          <c:x val="0.382338562730545"/>
          <c:y val="0.020188087774294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153605015674"/>
          <c:w val="0.960001777698769"/>
          <c:h val="0.77065830721003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9</c:v>
                </c:pt>
                <c:pt idx="1">
                  <c:v>4</c:v>
                </c:pt>
                <c:pt idx="2">
                  <c:v>6</c:v>
                </c:pt>
                <c:pt idx="3">
                  <c:v>4</c:v>
                </c:pt>
                <c:pt idx="4">
                  <c:v>0</c:v>
                </c:pt>
                <c:pt idx="5">
                  <c:v>0</c:v>
                </c:pt>
                <c:pt idx="6">
                  <c:v>2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1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60655737704918</c:v>
                </c:pt>
                <c:pt idx="1">
                  <c:v>4.43852459016393</c:v>
                </c:pt>
                <c:pt idx="2">
                  <c:v>12.3811475409836</c:v>
                </c:pt>
                <c:pt idx="3">
                  <c:v>11.4467213114754</c:v>
                </c:pt>
                <c:pt idx="4">
                  <c:v>5.60655737704918</c:v>
                </c:pt>
                <c:pt idx="5">
                  <c:v>5.60655737704918</c:v>
                </c:pt>
                <c:pt idx="6">
                  <c:v>2.33606557377049</c:v>
                </c:pt>
                <c:pt idx="7">
                  <c:v>5.13934426229508</c:v>
                </c:pt>
                <c:pt idx="8">
                  <c:v>0.467213114754098</c:v>
                </c:pt>
                <c:pt idx="9">
                  <c:v>0.467213114754098</c:v>
                </c:pt>
                <c:pt idx="10">
                  <c:v>0.700819672131147</c:v>
                </c:pt>
                <c:pt idx="11">
                  <c:v>0.467213114754098</c:v>
                </c:pt>
                <c:pt idx="12">
                  <c:v>0.233606557377049</c:v>
                </c:pt>
                <c:pt idx="13">
                  <c:v>0</c:v>
                </c:pt>
                <c:pt idx="14">
                  <c:v>0.934426229508197</c:v>
                </c:pt>
                <c:pt idx="15">
                  <c:v>1.16803278688525</c:v>
                </c:pt>
              </c:numCache>
            </c:numRef>
          </c:val>
        </c:ser>
        <c:gapWidth val="100"/>
        <c:overlap val="0"/>
        <c:axId val="94883213"/>
        <c:axId val="8273585"/>
      </c:barChart>
      <c:catAx>
        <c:axId val="9488321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3585"/>
        <c:crossesAt val="0"/>
        <c:auto val="1"/>
        <c:lblAlgn val="ctr"/>
        <c:lblOffset val="100"/>
        <c:noMultiLvlLbl val="0"/>
      </c:catAx>
      <c:valAx>
        <c:axId val="82735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8321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3" spc="-1" strike="noStrike">
                <a:solidFill>
                  <a:srgbClr val="000000"/>
                </a:solidFill>
                <a:latin typeface="Arial"/>
              </a:defRPr>
            </a:pPr>
            <a:r>
              <a:rPr b="1" sz="1493" spc="-1" strike="noStrike">
                <a:solidFill>
                  <a:srgbClr val="000000"/>
                </a:solidFill>
                <a:latin typeface="Arial"/>
              </a:rPr>
              <a:t>EEJAB VESPERTINO</a:t>
            </a:r>
          </a:p>
        </c:rich>
      </c:tx>
      <c:layout>
        <c:manualLayout>
          <c:xMode val="edge"/>
          <c:yMode val="edge"/>
          <c:x val="0.382427447668993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59957335229545"/>
          <c:h val="0.7700287464066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7</c:v>
                </c:pt>
                <c:pt idx="2">
                  <c:v>4</c:v>
                </c:pt>
                <c:pt idx="3">
                  <c:v>4</c:v>
                </c:pt>
                <c:pt idx="4">
                  <c:v>0</c:v>
                </c:pt>
                <c:pt idx="5">
                  <c:v>2</c:v>
                </c:pt>
                <c:pt idx="6">
                  <c:v>3</c:v>
                </c:pt>
                <c:pt idx="7">
                  <c:v>1</c:v>
                </c:pt>
                <c:pt idx="8">
                  <c:v>1</c:v>
                </c:pt>
                <c:pt idx="9">
                  <c:v>0</c:v>
                </c:pt>
                <c:pt idx="10">
                  <c:v>1</c:v>
                </c:pt>
                <c:pt idx="11">
                  <c:v>0</c:v>
                </c:pt>
                <c:pt idx="12">
                  <c:v>1</c:v>
                </c:pt>
                <c:pt idx="13">
                  <c:v>0</c:v>
                </c:pt>
                <c:pt idx="14">
                  <c:v>0</c:v>
                </c:pt>
                <c:pt idx="1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56326530612245</c:v>
                </c:pt>
                <c:pt idx="1">
                  <c:v>5.19591836734694</c:v>
                </c:pt>
                <c:pt idx="2">
                  <c:v>14.4938775510204</c:v>
                </c:pt>
                <c:pt idx="3">
                  <c:v>13.4</c:v>
                </c:pt>
                <c:pt idx="4">
                  <c:v>6.56326530612245</c:v>
                </c:pt>
                <c:pt idx="5">
                  <c:v>6.56326530612245</c:v>
                </c:pt>
                <c:pt idx="6">
                  <c:v>2.73469387755102</c:v>
                </c:pt>
                <c:pt idx="7">
                  <c:v>6.01632653061225</c:v>
                </c:pt>
                <c:pt idx="8">
                  <c:v>0.546938775510204</c:v>
                </c:pt>
                <c:pt idx="9">
                  <c:v>0.546938775510204</c:v>
                </c:pt>
                <c:pt idx="10">
                  <c:v>0.820408163265306</c:v>
                </c:pt>
                <c:pt idx="11">
                  <c:v>0.546938775510204</c:v>
                </c:pt>
                <c:pt idx="12">
                  <c:v>0.273469387755102</c:v>
                </c:pt>
                <c:pt idx="13">
                  <c:v>0.273469387755102</c:v>
                </c:pt>
                <c:pt idx="14">
                  <c:v>1.09387755102041</c:v>
                </c:pt>
                <c:pt idx="15">
                  <c:v>1.36734693877551</c:v>
                </c:pt>
              </c:numCache>
            </c:numRef>
          </c:val>
        </c:ser>
        <c:gapWidth val="100"/>
        <c:overlap val="0"/>
        <c:axId val="1241779"/>
        <c:axId val="66315365"/>
      </c:barChart>
      <c:catAx>
        <c:axId val="124177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15365"/>
        <c:crossesAt val="0"/>
        <c:auto val="1"/>
        <c:lblAlgn val="ctr"/>
        <c:lblOffset val="100"/>
        <c:noMultiLvlLbl val="0"/>
      </c:catAx>
      <c:valAx>
        <c:axId val="663153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177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3" spc="-1" strike="noStrike">
                <a:solidFill>
                  <a:srgbClr val="000000"/>
                </a:solidFill>
                <a:latin typeface="Arial"/>
              </a:defRPr>
            </a:pPr>
            <a:r>
              <a:rPr b="1" sz="1493" spc="-1" strike="noStrike">
                <a:solidFill>
                  <a:srgbClr val="000000"/>
                </a:solidFill>
                <a:latin typeface="Arial"/>
              </a:rPr>
              <a:t>EEJAB VESPERTINO</a:t>
            </a:r>
          </a:p>
        </c:rich>
      </c:tx>
      <c:layout>
        <c:manualLayout>
          <c:xMode val="edge"/>
          <c:yMode val="edge"/>
          <c:x val="0.382471890138216"/>
          <c:y val="0.020130649246767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172110385282"/>
          <c:w val="0.959957335229545"/>
          <c:h val="0.77069724036795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6</c:v>
                </c:pt>
                <c:pt idx="1">
                  <c:v>1</c:v>
                </c:pt>
                <c:pt idx="2">
                  <c:v>16</c:v>
                </c:pt>
                <c:pt idx="3">
                  <c:v>2</c:v>
                </c:pt>
                <c:pt idx="4">
                  <c:v>0</c:v>
                </c:pt>
                <c:pt idx="5">
                  <c:v>5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1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87755102040816</c:v>
                </c:pt>
                <c:pt idx="1">
                  <c:v>4.6530612244898</c:v>
                </c:pt>
                <c:pt idx="2">
                  <c:v>12.9795918367347</c:v>
                </c:pt>
                <c:pt idx="3">
                  <c:v>12</c:v>
                </c:pt>
                <c:pt idx="4">
                  <c:v>5.87755102040816</c:v>
                </c:pt>
                <c:pt idx="5">
                  <c:v>5.87755102040816</c:v>
                </c:pt>
                <c:pt idx="6">
                  <c:v>2.44897959183673</c:v>
                </c:pt>
                <c:pt idx="7">
                  <c:v>5.38775510204082</c:v>
                </c:pt>
                <c:pt idx="8">
                  <c:v>0.489795918367347</c:v>
                </c:pt>
                <c:pt idx="9">
                  <c:v>0.489795918367347</c:v>
                </c:pt>
                <c:pt idx="10">
                  <c:v>0.73469387755102</c:v>
                </c:pt>
                <c:pt idx="11">
                  <c:v>0.489795918367347</c:v>
                </c:pt>
                <c:pt idx="12">
                  <c:v>0.244897959183673</c:v>
                </c:pt>
                <c:pt idx="13">
                  <c:v>0.244897959183673</c:v>
                </c:pt>
                <c:pt idx="14">
                  <c:v>0.979591836734694</c:v>
                </c:pt>
                <c:pt idx="15">
                  <c:v>1.22448979591837</c:v>
                </c:pt>
              </c:numCache>
            </c:numRef>
          </c:val>
        </c:ser>
        <c:gapWidth val="100"/>
        <c:overlap val="0"/>
        <c:axId val="47306400"/>
        <c:axId val="82560134"/>
      </c:barChart>
      <c:catAx>
        <c:axId val="4730640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60134"/>
        <c:crossesAt val="0"/>
        <c:auto val="1"/>
        <c:lblAlgn val="ctr"/>
        <c:lblOffset val="100"/>
        <c:noMultiLvlLbl val="0"/>
      </c:catAx>
      <c:valAx>
        <c:axId val="82560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0640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7" spc="-1" strike="noStrike">
                <a:solidFill>
                  <a:srgbClr val="000000"/>
                </a:solidFill>
                <a:latin typeface="Arial"/>
              </a:defRPr>
            </a:pPr>
            <a:r>
              <a:rPr b="1" sz="1497" spc="-1" strike="noStrike">
                <a:solidFill>
                  <a:srgbClr val="000000"/>
                </a:solidFill>
                <a:latin typeface="Arial"/>
              </a:rPr>
              <a:t>EEJAB NOTURNO</a:t>
            </a:r>
          </a:p>
        </c:rich>
      </c:tx>
      <c:layout>
        <c:manualLayout>
          <c:xMode val="edge"/>
          <c:yMode val="edge"/>
          <c:x val="0.398826718812497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59912892760322"/>
          <c:h val="0.7700287464066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13</c:v>
                </c:pt>
                <c:pt idx="3">
                  <c:v>0</c:v>
                </c:pt>
                <c:pt idx="4">
                  <c:v>0</c:v>
                </c:pt>
                <c:pt idx="5">
                  <c:v>7</c:v>
                </c:pt>
                <c:pt idx="6">
                  <c:v>6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6</c:v>
                </c:pt>
                <c:pt idx="13">
                  <c:v>6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01369863013699</c:v>
                </c:pt>
                <c:pt idx="1">
                  <c:v>2.01369863013699</c:v>
                </c:pt>
                <c:pt idx="2">
                  <c:v>7.38356164383562</c:v>
                </c:pt>
                <c:pt idx="3">
                  <c:v>6.71232876712329</c:v>
                </c:pt>
                <c:pt idx="4">
                  <c:v>4.6986301369863</c:v>
                </c:pt>
                <c:pt idx="5">
                  <c:v>4.6986301369863</c:v>
                </c:pt>
                <c:pt idx="6">
                  <c:v>4.6986301369863</c:v>
                </c:pt>
                <c:pt idx="7">
                  <c:v>2.01369863013699</c:v>
                </c:pt>
                <c:pt idx="8">
                  <c:v>2.68493150684932</c:v>
                </c:pt>
                <c:pt idx="9">
                  <c:v>3.57990867579909</c:v>
                </c:pt>
                <c:pt idx="10">
                  <c:v>3.1324200913242</c:v>
                </c:pt>
                <c:pt idx="11">
                  <c:v>2.68493150684932</c:v>
                </c:pt>
                <c:pt idx="12">
                  <c:v>1.78995433789954</c:v>
                </c:pt>
                <c:pt idx="13">
                  <c:v>0.89497716894977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85174011"/>
        <c:axId val="88396471"/>
      </c:barChart>
      <c:catAx>
        <c:axId val="8517401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96471"/>
        <c:crossesAt val="0"/>
        <c:auto val="1"/>
        <c:lblAlgn val="ctr"/>
        <c:lblOffset val="100"/>
        <c:noMultiLvlLbl val="0"/>
      </c:catAx>
      <c:valAx>
        <c:axId val="88396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7401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55EF-1B27-47B9-A4C5-CB88E8A7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38B-AF63-4A8F-9C59-FED4D02E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782-CBAE-4753-A5F2-EA099EDA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CF18-6D18-471B-9E8A-77EE0497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2A9-A18F-4035-9142-A1B6938E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7DC-5008-4F17-8339-BB8AF171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4B2-1025-4754-91DC-763FE911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9E3-3FBA-48E6-9208-D142BC36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E80-47FA-4F23-8224-C731E670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DDC-0658-4598-9D66-5861E687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C88-E1F6-4241-94E9-D871F6A6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20C-3DA4-4C45-8CF5-88BADCA7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560" y="643572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A325-8D5F-4F87-AE1D-B71F6A7C8516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20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6920" y="643572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9826-A905-4AA2-B3BC-4F445840F9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4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5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6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7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8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9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10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1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12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..\cronograma 2&#186; semeste\Cronograma - PNTE.doc" TargetMode="External"/><Relationship Id="rId2" Type="http://schemas.openxmlformats.org/officeDocument/2006/relationships/hyperlink" Target="..\cronograma 2&#186; semeste\Cronograma - PSTE.doc" TargetMode="External"/><Relationship Id="rId3" Type="http://schemas.openxmlformats.org/officeDocument/2006/relationships/hyperlink" Target="..\cronograma 2&#186; semeste\Cronograma - completo.doc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..\cronograma de a&#231;&#227;o das escolas\cronograma de a&#231;&#227;o EEJAB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2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3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1640" y="1196640"/>
            <a:ext cx="6481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E JAN ANTONIN BATA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BATAYPORÃ - 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94920" y="5300640"/>
            <a:ext cx="8497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ixaDeTexto 5"/>
          <p:cNvSpPr/>
          <p:nvPr/>
        </p:nvSpPr>
        <p:spPr>
          <a:xfrm>
            <a:off x="571680" y="4714920"/>
            <a:ext cx="2857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755640" y="227664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250920" y="2205000"/>
          <a:ext cx="6842160" cy="266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27" name="Text Box 11"/>
          <p:cNvSpPr/>
          <p:nvPr/>
        </p:nvSpPr>
        <p:spPr>
          <a:xfrm>
            <a:off x="971640" y="5157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403280" y="4941720"/>
          <a:ext cx="3811680" cy="144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941720"/>
                    <a:ext cx="3811680" cy="14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 SIM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ixaDeTexto 4"/>
          <p:cNvSpPr/>
          <p:nvPr/>
        </p:nvSpPr>
        <p:spPr>
          <a:xfrm>
            <a:off x="2214720" y="5357880"/>
            <a:ext cx="2928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611280" y="2349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7020000" y="335772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Object 3"/>
          <p:cNvGraphicFramePr/>
          <p:nvPr/>
        </p:nvGraphicFramePr>
        <p:xfrm>
          <a:off x="250920" y="2133720"/>
          <a:ext cx="6913440" cy="2735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39" name="Object 4"/>
          <p:cNvGraphicFramePr/>
          <p:nvPr/>
        </p:nvGraphicFramePr>
        <p:xfrm>
          <a:off x="1547640" y="4941720"/>
          <a:ext cx="3811680" cy="144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941720"/>
                    <a:ext cx="3811680" cy="14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aixaDeTexto 6"/>
          <p:cNvSpPr/>
          <p:nvPr/>
        </p:nvSpPr>
        <p:spPr>
          <a:xfrm>
            <a:off x="2571840" y="4143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ixaDeTexto 7"/>
          <p:cNvSpPr/>
          <p:nvPr/>
        </p:nvSpPr>
        <p:spPr>
          <a:xfrm>
            <a:off x="2000160" y="5143680"/>
            <a:ext cx="1928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7236000" y="342900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Object 3"/>
          <p:cNvGraphicFramePr/>
          <p:nvPr/>
        </p:nvGraphicFramePr>
        <p:xfrm>
          <a:off x="179280" y="2276640"/>
          <a:ext cx="7093080" cy="2376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48" name="Object 4"/>
          <p:cNvGraphicFramePr/>
          <p:nvPr/>
        </p:nvGraphicFramePr>
        <p:xfrm>
          <a:off x="1908000" y="47242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724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ixaDeTexto 5"/>
          <p:cNvSpPr/>
          <p:nvPr/>
        </p:nvSpPr>
        <p:spPr>
          <a:xfrm>
            <a:off x="1857240" y="5214960"/>
            <a:ext cx="2714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Object 3"/>
          <p:cNvGraphicFramePr/>
          <p:nvPr/>
        </p:nvGraphicFramePr>
        <p:xfrm>
          <a:off x="179280" y="2205000"/>
          <a:ext cx="6913800" cy="2592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1619280" y="486900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4869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5"/>
          <p:cNvSpPr/>
          <p:nvPr/>
        </p:nvSpPr>
        <p:spPr>
          <a:xfrm>
            <a:off x="1928880" y="52149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Object 3"/>
          <p:cNvGraphicFramePr/>
          <p:nvPr/>
        </p:nvGraphicFramePr>
        <p:xfrm>
          <a:off x="250920" y="2276640"/>
          <a:ext cx="6913440" cy="2520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62" name="Object 4"/>
          <p:cNvGraphicFramePr/>
          <p:nvPr/>
        </p:nvGraphicFramePr>
        <p:xfrm>
          <a:off x="1332000" y="486900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869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NOTUR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 MEIR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ixaDeTexto 5"/>
          <p:cNvSpPr/>
          <p:nvPr/>
        </p:nvSpPr>
        <p:spPr>
          <a:xfrm>
            <a:off x="1714680" y="5143680"/>
            <a:ext cx="2928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Object 3"/>
          <p:cNvGraphicFramePr/>
          <p:nvPr/>
        </p:nvGraphicFramePr>
        <p:xfrm>
          <a:off x="179280" y="2205000"/>
          <a:ext cx="6840720" cy="2519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72" name="Object 4"/>
          <p:cNvGraphicFramePr/>
          <p:nvPr/>
        </p:nvGraphicFramePr>
        <p:xfrm>
          <a:off x="1187280" y="486900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4869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Object 3"/>
          <p:cNvGraphicFramePr/>
          <p:nvPr/>
        </p:nvGraphicFramePr>
        <p:xfrm>
          <a:off x="179280" y="2349360"/>
          <a:ext cx="6840720" cy="2374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78" name="Object 4"/>
          <p:cNvGraphicFramePr/>
          <p:nvPr/>
        </p:nvGraphicFramePr>
        <p:xfrm>
          <a:off x="1258920" y="486900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4869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aixaDeTexto 5"/>
          <p:cNvSpPr/>
          <p:nvPr/>
        </p:nvSpPr>
        <p:spPr>
          <a:xfrm>
            <a:off x="1857240" y="5072040"/>
            <a:ext cx="1857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Object 3"/>
          <p:cNvGraphicFramePr/>
          <p:nvPr/>
        </p:nvGraphicFramePr>
        <p:xfrm>
          <a:off x="324000" y="2205000"/>
          <a:ext cx="6696000" cy="2303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85" name="Object 4"/>
          <p:cNvGraphicFramePr/>
          <p:nvPr/>
        </p:nvGraphicFramePr>
        <p:xfrm>
          <a:off x="1619280" y="4581360"/>
          <a:ext cx="3811680" cy="144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4581360"/>
                    <a:ext cx="3811680" cy="14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ixaDeTexto 5"/>
          <p:cNvSpPr/>
          <p:nvPr/>
        </p:nvSpPr>
        <p:spPr>
          <a:xfrm>
            <a:off x="1571760" y="52149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1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Object 3"/>
          <p:cNvGraphicFramePr/>
          <p:nvPr/>
        </p:nvGraphicFramePr>
        <p:xfrm>
          <a:off x="179280" y="2276640"/>
          <a:ext cx="6913800" cy="2304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92" name="Object 4"/>
          <p:cNvGraphicFramePr/>
          <p:nvPr/>
        </p:nvGraphicFramePr>
        <p:xfrm>
          <a:off x="1258920" y="479736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479736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56760" y="1999800"/>
            <a:ext cx="8497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Fís/ Ed. Rel/ Prod. Interativ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Ciências/ Ed. Fís/ Port/ B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59,6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40,3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Vesper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Hist/ Fís/ Lit/ Soc/ Ed. R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Ed. Fís/ Port/ 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49,4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50,5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Notur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Físi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Port/ Geo/ Inglês/ Fil/ So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26,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73,7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ixaDeTexto 4"/>
          <p:cNvSpPr/>
          <p:nvPr/>
        </p:nvSpPr>
        <p:spPr>
          <a:xfrm>
            <a:off x="5214960" y="3214800"/>
            <a:ext cx="3571920" cy="580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urno que apresentou menos uso: Matu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plano deve conter no máximo 2 aulas, mai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o professor da STE seja questionado e não souber orientar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, os mesmos se comprometerão em buscar apoio junto 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 do 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ronograma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aixaDeTexto 4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056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 JUL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Espaço Reservado para Rodapé 6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7143840" y="342900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684360" y="2276640"/>
            <a:ext cx="48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250920" y="2205000"/>
          <a:ext cx="7057800" cy="2303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00" name="Text Box 10"/>
          <p:cNvSpPr/>
          <p:nvPr/>
        </p:nvSpPr>
        <p:spPr>
          <a:xfrm>
            <a:off x="1403280" y="494172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1547640" y="479736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79736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ixaDeTexto 5"/>
          <p:cNvSpPr/>
          <p:nvPr/>
        </p:nvSpPr>
        <p:spPr>
          <a:xfrm>
            <a:off x="1071720" y="5072040"/>
            <a:ext cx="278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143840" y="328608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971640" y="213372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468360" y="2205000"/>
          <a:ext cx="6767640" cy="244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09" name="Text Box 11"/>
          <p:cNvSpPr/>
          <p:nvPr/>
        </p:nvSpPr>
        <p:spPr>
          <a:xfrm>
            <a:off x="1332000" y="515772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1908000" y="47242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724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ixaDeTexto 5"/>
          <p:cNvSpPr/>
          <p:nvPr/>
        </p:nvSpPr>
        <p:spPr>
          <a:xfrm>
            <a:off x="1571760" y="4929120"/>
            <a:ext cx="3000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7286760" y="335772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900000" y="25653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0" y="2276640"/>
          <a:ext cx="7308720" cy="2447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18" name="Text Box 11"/>
          <p:cNvSpPr/>
          <p:nvPr/>
        </p:nvSpPr>
        <p:spPr>
          <a:xfrm>
            <a:off x="1042920" y="486900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1619280" y="486900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4869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00:53:38Z</dcterms:created>
  <dc:creator>Luciana Catarino</dc:creator>
  <dc:description/>
  <dc:language>en-US</dc:language>
  <cp:lastModifiedBy>Luciana Catarino</cp:lastModifiedBy>
  <dcterms:modified xsi:type="dcterms:W3CDTF">2009-07-28T20:01:25Z</dcterms:modified>
  <cp:revision>24</cp:revision>
  <dc:subject/>
  <dc:title>EE BRAZ SINIGÁGLIA BATAYPORÃ - MS</dc:title>
</cp:coreProperties>
</file>